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220-2FC8-463F-B167-9F192CBC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0CC-4E0A-4F74-B0CD-15D60019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932-577F-4883-BED8-E92AACC7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32A-23F1-4797-87B9-69D3049E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39C-8904-41DC-83A0-167F985D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FBF-8CA9-4C97-B864-10B6F704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142-9876-4531-B8A9-B2A8CA4A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682-7E7C-43A3-B269-BBCDAD70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F2D-D5EE-4BE8-BC6E-EA814B77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1E3-AED1-466A-9CC4-F2AB0F0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DA3-4F5C-4123-9CA1-BC003A11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C53-BE90-4E19-99EE-A9B8817E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3AF8-F1AD-4536-B056-F2DBAE04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Las Comi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r: Cailan O’Le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24480" y="2286000"/>
            <a:ext cx="2552760" cy="2095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22096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429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505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752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go de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almuerzo me gusta c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2857320" cy="215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666880" cy="206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76720" y="3733920"/>
            <a:ext cx="1876320" cy="2333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yog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209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ocad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Para la cena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2971800" cy="153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867280" y="3581280"/>
            <a:ext cx="2562480" cy="1781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2514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leche de ch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ollo a la par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l arr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76560" y="3619440"/>
          <a:ext cx="119088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76560" y="3619440"/>
                    <a:ext cx="119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0:52Z</dcterms:created>
  <dc:creator>olearycai</dc:creator>
  <dc:description/>
  <dc:language>en-US</dc:language>
  <cp:lastModifiedBy>olearycai</cp:lastModifiedBy>
  <dcterms:modified xsi:type="dcterms:W3CDTF">2012-04-04T18:08:24Z</dcterms:modified>
  <cp:revision>11</cp:revision>
  <dc:subject/>
  <dc:title>Las Comidas</dc:title>
</cp:coreProperties>
</file>